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303-B627-4490-A6DF-BAE62FB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C86-E071-4E32-AEFD-81FB91A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AA6-AC98-4447-90B0-98B063AF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B7F-5E02-47A5-AC7E-0D682D9A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E5E-6D00-4F17-A1A9-EED959CB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797-D99E-4CE5-A6AA-BA97234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A71-718A-4EFD-AE68-DFE21074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F95-EE87-4EEE-8212-F5D37607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242-1B73-45BB-B19C-C1FFEB54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F4E-821A-461A-822B-2E267EA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64D-CED7-467B-B0C3-30F8E08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FF6-8D7C-4ACF-9E21-0ECAF1EE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3070-1669-4C12-B478-D857845D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743200"/>
            <a:ext cx="5602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ГОСПОДИ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А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3400560"/>
            <a:ext cx="6095880" cy="58546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ея сега 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с болка във сърцет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Моите очи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са пълни със сълзи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3476520"/>
            <a:ext cx="6248520" cy="6677640"/>
          </a:xfrm>
          <a:prstGeom prst="rect">
            <a:avLst/>
          </a:prstGeom>
          <a:gradFill rotWithShape="0">
            <a:gsLst>
              <a:gs pos="0">
                <a:srgbClr val="000000">
                  <a:alpha val="32156"/>
                </a:srgbClr>
              </a:gs>
              <a:gs pos="100000">
                <a:srgbClr val="333399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На колене падам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                             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с болка и тъг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Моля те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 Господи , помогни ми ти сега. /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9400" y="3476520"/>
            <a:ext cx="8544600" cy="33858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Господи ела /ела/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Моля Те се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Прегърни ме силн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изтрий моята сълза.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76520"/>
            <a:ext cx="7391520" cy="33858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bbe0e3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6600"/>
                </a:solidFill>
                <a:latin typeface="Monotype Corsiva"/>
              </a:rPr>
              <a:t>Мили Боже,                            колко Си добър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6600"/>
                </a:solidFill>
                <a:latin typeface="Monotype Corsiva"/>
              </a:rPr>
              <a:t>с Твоята ръка                изтри моята сълз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00600" y="3240"/>
            <a:ext cx="4419720" cy="3425760"/>
          </a:xfrm>
          <a:prstGeom prst="rect">
            <a:avLst/>
          </a:prstGeom>
          <a:ln w="0">
            <a:noFill/>
          </a:ln>
        </p:spPr>
      </p:pic>
    </p:spTree>
  </p:cSld>
  <p:transition advTm="1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6172200" cy="58546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Показваш ми                      прободената Си рък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и виждам аз т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моята сълз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14600" y="3400560"/>
            <a:ext cx="6553080" cy="5854680"/>
          </a:xfrm>
          <a:prstGeom prst="rect">
            <a:avLst/>
          </a:prstGeom>
          <a:gradFill rotWithShape="0">
            <a:gsLst>
              <a:gs pos="0">
                <a:srgbClr val="1ef8c9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На колене падам                       с болка и тъ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Моля те, Господи, помогни ми Ти сега. /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476520"/>
            <a:ext cx="6477120" cy="58546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Господи ела /ела /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моля Те се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Прегърни ме силн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Monotype Corsiva"/>
              </a:rPr>
              <a:t>изтрий моята сълза. /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20:14Z</dcterms:created>
  <dc:creator>TrifonTrifonow</dc:creator>
  <dc:description/>
  <dc:language>en-US</dc:language>
  <cp:lastModifiedBy>TrifonTrifonow</cp:lastModifiedBy>
  <dcterms:modified xsi:type="dcterms:W3CDTF">2005-12-28T06:22:10Z</dcterms:modified>
  <cp:revision>1</cp:revision>
  <dc:subject/>
  <dc:title>Slide 1</dc:title>
</cp:coreProperties>
</file>